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22E-E958-473A-9EB9-20607E9B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0AB2-DFA7-4C5B-814D-3E625364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851-288B-4694-BF9D-E05E2794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E5D-E941-403A-A8E7-4D160027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C7AF-8690-489D-8339-AB6CBE49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7738-72FA-475F-AC27-72A6BE80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91C7-D104-4629-A361-CBEC3AAA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0612-1679-40A1-A79A-0818CEDF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6CF2-332D-4AD9-A671-25DCF15D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BE9B-CA9C-4C34-87FF-78C20DC1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3F12-CE95-4009-9D4A-301CB864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98D-B749-410F-89AB-C905D4DE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77AD-7E5E-459E-ABF0-F447B80D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E9E1-1580-4061-8BD0-D9296FE9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1F0B-E0DA-47EA-82BE-E3AD2023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E49B-89D3-403C-9E68-29E4A1EE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DA73-4707-44BB-A72D-70D5FF29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957-E565-4C12-9875-432D232F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299-28B2-4E84-A8FE-6080F36D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41C4-7303-4227-B1FF-8A3DC7D5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70F-1A14-4265-9F7A-01659999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30C-82A0-4890-903A-8247EB1B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4106-16E6-4A84-8CD4-F0F9E07D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A2A-F23B-498D-A1E4-65800D84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A94D-64AC-41BB-B387-CD5D328487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DB3D-BBA2-4F37-B637-6E715F932FF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custGeom>
            <a:avLst/>
            <a:gdLst/>
            <a:ahLst/>
            <a:rect l="l" t="t" r="r" b="b"/>
            <a:pathLst>
              <a:path w="4032250" h="647700">
                <a:moveTo>
                  <a:pt x="107952" y="0"/>
                </a:moveTo>
                <a:lnTo>
                  <a:pt x="3924298" y="0"/>
                </a:lnTo>
                <a:lnTo>
                  <a:pt x="4032250" y="107952"/>
                </a:lnTo>
                <a:lnTo>
                  <a:pt x="4032250" y="647700"/>
                </a:lnTo>
                <a:lnTo>
                  <a:pt x="0" y="647700"/>
                </a:lnTo>
                <a:lnTo>
                  <a:pt x="0" y="107952"/>
                </a:lnTo>
                <a:cubicBezTo>
                  <a:pt x="0" y="48332"/>
                  <a:pt x="48332" y="0"/>
                  <a:pt x="107952" y="0"/>
                </a:cubicBezTo>
                <a:close/>
              </a:path>
            </a:pathLst>
          </a:cu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单圆角矩形 6"/>
          <p:cNvSpPr/>
          <p:nvPr/>
        </p:nvSpPr>
        <p:spPr>
          <a:xfrm>
            <a:off x="357120" y="566640"/>
            <a:ext cx="4032360" cy="647640"/>
          </a:xfrm>
          <a:custGeom>
            <a:avLst/>
            <a:gdLst/>
            <a:ahLst/>
            <a:rect l="l" t="t" r="r" b="b"/>
            <a:pathLst>
              <a:path w="4032250" h="647700">
                <a:moveTo>
                  <a:pt x="107952" y="0"/>
                </a:moveTo>
                <a:lnTo>
                  <a:pt x="3924298" y="0"/>
                </a:lnTo>
                <a:lnTo>
                  <a:pt x="4032250" y="107952"/>
                </a:lnTo>
                <a:lnTo>
                  <a:pt x="4032250" y="647700"/>
                </a:lnTo>
                <a:lnTo>
                  <a:pt x="0" y="647700"/>
                </a:lnTo>
                <a:lnTo>
                  <a:pt x="0" y="107952"/>
                </a:lnTo>
                <a:cubicBezTo>
                  <a:pt x="0" y="48332"/>
                  <a:pt x="48332" y="0"/>
                  <a:pt x="107952" y="0"/>
                </a:cubicBezTo>
                <a:close/>
              </a:path>
            </a:pathLst>
          </a:cu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单圆角矩形 6"/>
          <p:cNvSpPr/>
          <p:nvPr/>
        </p:nvSpPr>
        <p:spPr>
          <a:xfrm>
            <a:off x="357120" y="566640"/>
            <a:ext cx="4032360" cy="647640"/>
          </a:xfrm>
          <a:custGeom>
            <a:avLst/>
            <a:gdLst/>
            <a:ahLst/>
            <a:rect l="l" t="t" r="r" b="b"/>
            <a:pathLst>
              <a:path w="4032250" h="647700">
                <a:moveTo>
                  <a:pt x="107952" y="0"/>
                </a:moveTo>
                <a:lnTo>
                  <a:pt x="3924298" y="0"/>
                </a:lnTo>
                <a:lnTo>
                  <a:pt x="4032250" y="107952"/>
                </a:lnTo>
                <a:lnTo>
                  <a:pt x="4032250" y="647700"/>
                </a:lnTo>
                <a:lnTo>
                  <a:pt x="0" y="647700"/>
                </a:lnTo>
                <a:lnTo>
                  <a:pt x="0" y="107952"/>
                </a:lnTo>
                <a:cubicBezTo>
                  <a:pt x="0" y="48332"/>
                  <a:pt x="48332" y="0"/>
                  <a:pt x="107952" y="0"/>
                </a:cubicBezTo>
                <a:close/>
              </a:path>
            </a:pathLst>
          </a:cu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3"/>
          <p:cNvSpPr/>
          <p:nvPr/>
        </p:nvSpPr>
        <p:spPr>
          <a:xfrm>
            <a:off x="1643040" y="17146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.11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方向与位置练一练 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3"/>
          <p:cNvSpPr/>
          <p:nvPr/>
        </p:nvSpPr>
        <p:spPr>
          <a:xfrm>
            <a:off x="714240" y="57168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Picture 14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019240" y="1643040"/>
            <a:ext cx="5553000" cy="2679840"/>
          </a:xfrm>
          <a:prstGeom prst="rect">
            <a:avLst/>
          </a:prstGeom>
          <a:ln w="0">
            <a:noFill/>
          </a:ln>
        </p:spPr>
      </p:pic>
      <p:sp>
        <p:nvSpPr>
          <p:cNvPr id="876" name="标题 7"/>
          <p:cNvSpPr/>
          <p:nvPr/>
        </p:nvSpPr>
        <p:spPr>
          <a:xfrm>
            <a:off x="500040" y="642960"/>
            <a:ext cx="81439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下面是王叔叔某日驾车出行情况图。看图回答下列问题。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去程与返程的平均速度各是多少？全程驾车的平均速度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1357200" y="4357800"/>
          <a:ext cx="6715080" cy="1828800"/>
        </p:xfrm>
        <a:graphic>
          <a:graphicData uri="http://schemas.openxmlformats.org/drawingml/2006/table">
            <a:tbl>
              <a:tblPr/>
              <a:tblGrid>
                <a:gridCol w="928800"/>
                <a:gridCol w="1714680"/>
                <a:gridCol w="1357200"/>
                <a:gridCol w="271440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路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千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速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千米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去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返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全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78" name="TextBox 6"/>
          <p:cNvSpPr/>
          <p:nvPr/>
        </p:nvSpPr>
        <p:spPr>
          <a:xfrm>
            <a:off x="2714760" y="4786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7"/>
          <p:cNvSpPr/>
          <p:nvPr/>
        </p:nvSpPr>
        <p:spPr>
          <a:xfrm>
            <a:off x="4572000" y="4762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8"/>
          <p:cNvSpPr/>
          <p:nvPr/>
        </p:nvSpPr>
        <p:spPr>
          <a:xfrm>
            <a:off x="6357960" y="47624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12"/>
          <p:cNvSpPr/>
          <p:nvPr/>
        </p:nvSpPr>
        <p:spPr>
          <a:xfrm>
            <a:off x="2714760" y="53103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13"/>
          <p:cNvSpPr/>
          <p:nvPr/>
        </p:nvSpPr>
        <p:spPr>
          <a:xfrm>
            <a:off x="4572000" y="52862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14"/>
          <p:cNvSpPr/>
          <p:nvPr/>
        </p:nvSpPr>
        <p:spPr>
          <a:xfrm>
            <a:off x="6357960" y="52862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5"/>
          <p:cNvSpPr/>
          <p:nvPr/>
        </p:nvSpPr>
        <p:spPr>
          <a:xfrm>
            <a:off x="2714760" y="5762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16"/>
          <p:cNvSpPr/>
          <p:nvPr/>
        </p:nvSpPr>
        <p:spPr>
          <a:xfrm>
            <a:off x="4572000" y="5738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17"/>
          <p:cNvSpPr/>
          <p:nvPr/>
        </p:nvSpPr>
        <p:spPr>
          <a:xfrm>
            <a:off x="6072120" y="573876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2.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标题 7"/>
          <p:cNvSpPr/>
          <p:nvPr/>
        </p:nvSpPr>
        <p:spPr>
          <a:xfrm>
            <a:off x="642960" y="928800"/>
            <a:ext cx="80722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根据图中的信息解答下列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车站到学校的路线与游乐园到学校的路线所成的较小的夹角是（   ）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8"/>
          <p:cNvSpPr/>
          <p:nvPr/>
        </p:nvSpPr>
        <p:spPr>
          <a:xfrm>
            <a:off x="3786120" y="1785960"/>
            <a:ext cx="14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4" descr=""/>
          <p:cNvPicPr/>
          <p:nvPr/>
        </p:nvPicPr>
        <p:blipFill>
          <a:blip r:embed="rId1"/>
          <a:stretch/>
        </p:blipFill>
        <p:spPr>
          <a:xfrm>
            <a:off x="2071800" y="2428920"/>
            <a:ext cx="4914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标题 7"/>
          <p:cNvSpPr/>
          <p:nvPr/>
        </p:nvSpPr>
        <p:spPr>
          <a:xfrm>
            <a:off x="642960" y="857160"/>
            <a:ext cx="8072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根据图中的信息解答下列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电影院距离学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。位置在学校的东偏北方向，并且路线与学校到车站的距离垂直。学校到电影院的图上距离是多少厘米？请你在图中画出学校到电影院的路线，并标出电影院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8"/>
          <p:cNvSpPr/>
          <p:nvPr/>
        </p:nvSpPr>
        <p:spPr>
          <a:xfrm>
            <a:off x="1214280" y="316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组合 5"/>
          <p:cNvGrpSpPr/>
          <p:nvPr/>
        </p:nvGrpSpPr>
        <p:grpSpPr>
          <a:xfrm>
            <a:off x="785880" y="3618000"/>
            <a:ext cx="4929120" cy="885600"/>
            <a:chOff x="785880" y="3618000"/>
            <a:chExt cx="4929120" cy="885600"/>
          </a:xfrm>
        </p:grpSpPr>
        <p:sp>
          <p:nvSpPr>
            <p:cNvPr id="783" name="TextBox 3"/>
            <p:cNvSpPr/>
            <p:nvPr/>
          </p:nvSpPr>
          <p:spPr>
            <a:xfrm>
              <a:off x="785880" y="3809160"/>
              <a:ext cx="492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0000×  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厘米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84" name="Object 2"/>
            <p:cNvGraphicFramePr/>
            <p:nvPr/>
          </p:nvGraphicFramePr>
          <p:xfrm>
            <a:off x="2071800" y="3618000"/>
            <a:ext cx="1000080" cy="88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71800" y="3618000"/>
                      <a:ext cx="1000080" cy="88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86" name="TextBox 6"/>
          <p:cNvSpPr/>
          <p:nvPr/>
        </p:nvSpPr>
        <p:spPr>
          <a:xfrm>
            <a:off x="857160" y="447516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学校到电影院的图上距离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3"/>
          <a:stretch/>
        </p:blipFill>
        <p:spPr>
          <a:xfrm>
            <a:off x="4857840" y="3286080"/>
            <a:ext cx="3500280" cy="2665440"/>
          </a:xfrm>
          <a:prstGeom prst="rect">
            <a:avLst/>
          </a:prstGeom>
          <a:ln w="0">
            <a:noFill/>
          </a:ln>
        </p:spPr>
      </p:pic>
      <p:grpSp>
        <p:nvGrpSpPr>
          <p:cNvPr id="788" name="组合 22"/>
          <p:cNvGrpSpPr/>
          <p:nvPr/>
        </p:nvGrpSpPr>
        <p:grpSpPr>
          <a:xfrm>
            <a:off x="5929200" y="3286080"/>
            <a:ext cx="2335320" cy="1714680"/>
            <a:chOff x="5929200" y="3286080"/>
            <a:chExt cx="2335320" cy="1714680"/>
          </a:xfrm>
        </p:grpSpPr>
        <p:grpSp>
          <p:nvGrpSpPr>
            <p:cNvPr id="789" name="组合 20"/>
            <p:cNvGrpSpPr/>
            <p:nvPr/>
          </p:nvGrpSpPr>
          <p:grpSpPr>
            <a:xfrm>
              <a:off x="6500520" y="3286080"/>
              <a:ext cx="1764000" cy="1714680"/>
              <a:chOff x="6500520" y="3286080"/>
              <a:chExt cx="1764000" cy="1714680"/>
            </a:xfrm>
          </p:grpSpPr>
          <p:grpSp>
            <p:nvGrpSpPr>
              <p:cNvPr id="790" name="组合 18"/>
              <p:cNvGrpSpPr/>
              <p:nvPr/>
            </p:nvGrpSpPr>
            <p:grpSpPr>
              <a:xfrm>
                <a:off x="6571080" y="3785760"/>
                <a:ext cx="1287000" cy="1215000"/>
                <a:chOff x="6571080" y="3785760"/>
                <a:chExt cx="1287000" cy="1215000"/>
              </a:xfrm>
            </p:grpSpPr>
            <p:sp>
              <p:nvSpPr>
                <p:cNvPr id="791" name="直接连接符 11"/>
                <p:cNvSpPr/>
                <p:nvPr/>
              </p:nvSpPr>
              <p:spPr>
                <a:xfrm flipV="1">
                  <a:off x="6571080" y="3785760"/>
                  <a:ext cx="1000440" cy="1014840"/>
                </a:xfrm>
                <a:prstGeom prst="line">
                  <a:avLst/>
                </a:prstGeom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2" name="组合 17"/>
                <p:cNvGrpSpPr/>
                <p:nvPr/>
              </p:nvGrpSpPr>
              <p:grpSpPr>
                <a:xfrm>
                  <a:off x="6643080" y="4286160"/>
                  <a:ext cx="1215000" cy="714600"/>
                  <a:chOff x="6643080" y="4286160"/>
                  <a:chExt cx="1215000" cy="714600"/>
                </a:xfrm>
              </p:grpSpPr>
              <p:sp>
                <p:nvSpPr>
                  <p:cNvPr id="793" name="标题 2"/>
                  <p:cNvSpPr/>
                  <p:nvPr/>
                </p:nvSpPr>
                <p:spPr>
                  <a:xfrm>
                    <a:off x="6726960" y="4286160"/>
                    <a:ext cx="1131120" cy="58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ff0000"/>
                        </a:solidFill>
                        <a:latin typeface="黑体"/>
                        <a:ea typeface="黑体"/>
                      </a:rPr>
                      <a:t>45°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弧形 16"/>
                  <p:cNvSpPr/>
                  <p:nvPr/>
                </p:nvSpPr>
                <p:spPr>
                  <a:xfrm>
                    <a:off x="6643080" y="4643640"/>
                    <a:ext cx="214200" cy="357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4312" h="357189">
                        <a:moveTo>
                          <a:pt x="107156" y="0"/>
                        </a:moveTo>
                        <a:cubicBezTo>
                          <a:pt x="166337" y="0"/>
                          <a:pt x="214312" y="79960"/>
                          <a:pt x="214312" y="178595"/>
                        </a:cubicBezTo>
                        <a:lnTo>
                          <a:pt x="107156" y="178595"/>
                        </a:lnTo>
                        <a:lnTo>
                          <a:pt x="107156" y="0"/>
                        </a:lnTo>
                        <a:close/>
                      </a:path>
                      <a:path fill="none" w="214312" h="357189">
                        <a:moveTo>
                          <a:pt x="107156" y="0"/>
                        </a:moveTo>
                        <a:cubicBezTo>
                          <a:pt x="166337" y="0"/>
                          <a:pt x="214312" y="79960"/>
                          <a:pt x="214312" y="178595"/>
                        </a:cubicBez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5" name="标题 2"/>
              <p:cNvSpPr/>
              <p:nvPr/>
            </p:nvSpPr>
            <p:spPr>
              <a:xfrm>
                <a:off x="6500520" y="3286080"/>
                <a:ext cx="1764000" cy="58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电影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6" name="组合 17"/>
            <p:cNvGrpSpPr/>
            <p:nvPr/>
          </p:nvGrpSpPr>
          <p:grpSpPr>
            <a:xfrm>
              <a:off x="5929200" y="3621960"/>
              <a:ext cx="1642680" cy="1164600"/>
              <a:chOff x="5929200" y="3621960"/>
              <a:chExt cx="1642680" cy="1164600"/>
            </a:xfrm>
          </p:grpSpPr>
          <p:sp>
            <p:nvSpPr>
              <p:cNvPr id="797" name="标题 2"/>
              <p:cNvSpPr/>
              <p:nvPr/>
            </p:nvSpPr>
            <p:spPr>
              <a:xfrm>
                <a:off x="5929200" y="3715200"/>
                <a:ext cx="1346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</a:t>
                </a:r>
                <a:r>
                  <a:rPr b="0" lang="zh-CN" sz="20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厘米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右大括号 18"/>
              <p:cNvSpPr/>
              <p:nvPr/>
            </p:nvSpPr>
            <p:spPr>
              <a:xfrm flipH="1" rot="2632200">
                <a:off x="6887160" y="3510360"/>
                <a:ext cx="236520" cy="1387440"/>
              </a:xfrm>
              <a:custGeom>
                <a:avLst/>
                <a:gdLst>
                  <a:gd name="textAreaLeft" fmla="*/ 0 w 236520"/>
                  <a:gd name="textAreaRight" fmla="*/ 85320 w 236520"/>
                  <a:gd name="textAreaTop" fmla="*/ 40680 h 1387440"/>
                  <a:gd name="textAreaBottom" fmla="*/ 1346760 h 1387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012"/>
                      <a:pt x="10800" y="2024"/>
                    </a:cubicBezTo>
                    <a:lnTo>
                      <a:pt x="10800" y="8360"/>
                    </a:lnTo>
                    <a:cubicBezTo>
                      <a:pt x="10800" y="9372"/>
                      <a:pt x="16200" y="10384"/>
                      <a:pt x="21600" y="10384"/>
                    </a:cubicBezTo>
                    <a:cubicBezTo>
                      <a:pt x="16200" y="10384"/>
                      <a:pt x="10800" y="11396"/>
                      <a:pt x="10800" y="12408"/>
                    </a:cubicBezTo>
                    <a:lnTo>
                      <a:pt x="10800" y="19576"/>
                    </a:lnTo>
                    <a:cubicBezTo>
                      <a:pt x="10800" y="20588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标题 7"/>
          <p:cNvSpPr/>
          <p:nvPr/>
        </p:nvSpPr>
        <p:spPr>
          <a:xfrm>
            <a:off x="642960" y="1000080"/>
            <a:ext cx="80722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根据图中的信息解答下列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根据图上的距离，求学校到车站的实际距离是多少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8"/>
          <p:cNvSpPr/>
          <p:nvPr/>
        </p:nvSpPr>
        <p:spPr>
          <a:xfrm>
            <a:off x="1785960" y="3905280"/>
            <a:ext cx="58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量得学校到车站的图上距离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组合 4"/>
          <p:cNvGrpSpPr/>
          <p:nvPr/>
        </p:nvGrpSpPr>
        <p:grpSpPr>
          <a:xfrm>
            <a:off x="2428920" y="4379760"/>
            <a:ext cx="4929120" cy="885960"/>
            <a:chOff x="2428920" y="4379760"/>
            <a:chExt cx="4929120" cy="885960"/>
          </a:xfrm>
        </p:grpSpPr>
        <p:sp>
          <p:nvSpPr>
            <p:cNvPr id="802" name="TextBox 5"/>
            <p:cNvSpPr/>
            <p:nvPr/>
          </p:nvSpPr>
          <p:spPr>
            <a:xfrm>
              <a:off x="2428920" y="4570920"/>
              <a:ext cx="492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÷  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0000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厘米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3" name="Object 2"/>
            <p:cNvGraphicFramePr/>
            <p:nvPr/>
          </p:nvGraphicFramePr>
          <p:xfrm>
            <a:off x="3000240" y="4379760"/>
            <a:ext cx="1000080" cy="885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00240" y="4379760"/>
                      <a:ext cx="100008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5" name="TextBox 7"/>
          <p:cNvSpPr/>
          <p:nvPr/>
        </p:nvSpPr>
        <p:spPr>
          <a:xfrm>
            <a:off x="2786040" y="519120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9"/>
          <p:cNvSpPr/>
          <p:nvPr/>
        </p:nvSpPr>
        <p:spPr>
          <a:xfrm>
            <a:off x="1785960" y="569124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学校到车站的实际距离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3"/>
          <a:stretch/>
        </p:blipFill>
        <p:spPr>
          <a:xfrm>
            <a:off x="3429000" y="1928880"/>
            <a:ext cx="26557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8" name=""/>
          <p:cNvGraphicFramePr/>
          <p:nvPr/>
        </p:nvGraphicFramePr>
        <p:xfrm>
          <a:off x="1071720" y="4286160"/>
          <a:ext cx="7000560" cy="1828800"/>
        </p:xfrm>
        <a:graphic>
          <a:graphicData uri="http://schemas.openxmlformats.org/drawingml/2006/table">
            <a:tbl>
              <a:tblPr/>
              <a:tblGrid>
                <a:gridCol w="2676240"/>
                <a:gridCol w="1579680"/>
                <a:gridCol w="1303200"/>
                <a:gridCol w="144144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方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路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强强家→少年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少年宫→书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书店→强强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09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357280" y="1558800"/>
            <a:ext cx="4572000" cy="265608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4357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看图并解答问题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TextBox 22"/>
          <p:cNvSpPr/>
          <p:nvPr/>
        </p:nvSpPr>
        <p:spPr>
          <a:xfrm>
            <a:off x="3643200" y="469116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南偏西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23"/>
          <p:cNvSpPr/>
          <p:nvPr/>
        </p:nvSpPr>
        <p:spPr>
          <a:xfrm>
            <a:off x="5643720" y="4714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24"/>
          <p:cNvSpPr/>
          <p:nvPr/>
        </p:nvSpPr>
        <p:spPr>
          <a:xfrm>
            <a:off x="3643200" y="519120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西偏北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25"/>
          <p:cNvSpPr/>
          <p:nvPr/>
        </p:nvSpPr>
        <p:spPr>
          <a:xfrm>
            <a:off x="5643720" y="5214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7"/>
          <p:cNvSpPr/>
          <p:nvPr/>
        </p:nvSpPr>
        <p:spPr>
          <a:xfrm>
            <a:off x="3786120" y="564372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东偏南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8"/>
          <p:cNvSpPr/>
          <p:nvPr/>
        </p:nvSpPr>
        <p:spPr>
          <a:xfrm>
            <a:off x="5643720" y="56912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7" name=""/>
          <p:cNvGraphicFramePr/>
          <p:nvPr/>
        </p:nvGraphicFramePr>
        <p:xfrm>
          <a:off x="1143000" y="1619280"/>
          <a:ext cx="7000920" cy="1828800"/>
        </p:xfrm>
        <a:graphic>
          <a:graphicData uri="http://schemas.openxmlformats.org/drawingml/2006/table">
            <a:tbl>
              <a:tblPr/>
              <a:tblGrid>
                <a:gridCol w="2676600"/>
                <a:gridCol w="1579320"/>
                <a:gridCol w="1303560"/>
                <a:gridCol w="144144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方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路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强强家→少年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少年宫→书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书店→强强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-360" y="976320"/>
            <a:ext cx="4357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看图并解答问题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9" name="TextBox 22"/>
          <p:cNvSpPr/>
          <p:nvPr/>
        </p:nvSpPr>
        <p:spPr>
          <a:xfrm>
            <a:off x="3714840" y="202572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南偏西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3"/>
          <p:cNvSpPr/>
          <p:nvPr/>
        </p:nvSpPr>
        <p:spPr>
          <a:xfrm>
            <a:off x="5715000" y="2048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4"/>
          <p:cNvSpPr/>
          <p:nvPr/>
        </p:nvSpPr>
        <p:spPr>
          <a:xfrm>
            <a:off x="3714840" y="252576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西偏北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25"/>
          <p:cNvSpPr/>
          <p:nvPr/>
        </p:nvSpPr>
        <p:spPr>
          <a:xfrm>
            <a:off x="5715000" y="2548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7"/>
          <p:cNvSpPr/>
          <p:nvPr/>
        </p:nvSpPr>
        <p:spPr>
          <a:xfrm>
            <a:off x="3857760" y="29764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东偏南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8"/>
          <p:cNvSpPr/>
          <p:nvPr/>
        </p:nvSpPr>
        <p:spPr>
          <a:xfrm>
            <a:off x="5715000" y="30243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标题 7"/>
          <p:cNvSpPr/>
          <p:nvPr/>
        </p:nvSpPr>
        <p:spPr>
          <a:xfrm>
            <a:off x="1795320" y="3476520"/>
            <a:ext cx="6777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强走完全程的平均速度约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11"/>
          <p:cNvSpPr/>
          <p:nvPr/>
        </p:nvSpPr>
        <p:spPr>
          <a:xfrm>
            <a:off x="1714680" y="390528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7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÷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12"/>
          <p:cNvSpPr/>
          <p:nvPr/>
        </p:nvSpPr>
        <p:spPr>
          <a:xfrm>
            <a:off x="1571760" y="440532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710÷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1571760" y="49053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米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14"/>
          <p:cNvSpPr/>
          <p:nvPr/>
        </p:nvSpPr>
        <p:spPr>
          <a:xfrm>
            <a:off x="1214280" y="54054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强强走完全程的平均速度约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071360" y="999720"/>
            <a:ext cx="80722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一辆客车从汽车站向东行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后再向北行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，然后再向东偏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行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到达终点。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根据描述，画出这辆车的行驶路程图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1" name="Picture 9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440400" y="2500200"/>
            <a:ext cx="399960" cy="8953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10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6226200" y="4429080"/>
            <a:ext cx="1243080" cy="357120"/>
          </a:xfrm>
          <a:prstGeom prst="rect">
            <a:avLst/>
          </a:prstGeom>
          <a:ln w="0">
            <a:noFill/>
          </a:ln>
        </p:spPr>
      </p:pic>
      <p:grpSp>
        <p:nvGrpSpPr>
          <p:cNvPr id="833" name="组合 24"/>
          <p:cNvGrpSpPr/>
          <p:nvPr/>
        </p:nvGrpSpPr>
        <p:grpSpPr>
          <a:xfrm>
            <a:off x="2000160" y="2466720"/>
            <a:ext cx="3408840" cy="3748320"/>
            <a:chOff x="2000160" y="2466720"/>
            <a:chExt cx="3408840" cy="3748320"/>
          </a:xfrm>
        </p:grpSpPr>
        <p:cxnSp>
          <p:nvCxnSpPr>
            <p:cNvPr id="834" name="直接箭头连接符 5"/>
            <p:cNvCxnSpPr/>
            <p:nvPr/>
          </p:nvCxnSpPr>
          <p:spPr>
            <a:xfrm flipH="1">
              <a:off x="3621960" y="2466720"/>
              <a:ext cx="1080" cy="37486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835" name="直接箭头连接符 6"/>
            <p:cNvCxnSpPr/>
            <p:nvPr/>
          </p:nvCxnSpPr>
          <p:spPr>
            <a:xfrm>
              <a:off x="2000160" y="4482720"/>
              <a:ext cx="3409200" cy="370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836" name="椭圆 7"/>
            <p:cNvSpPr/>
            <p:nvPr/>
          </p:nvSpPr>
          <p:spPr>
            <a:xfrm>
              <a:off x="3597120" y="4479840"/>
              <a:ext cx="71280" cy="72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组合 17"/>
          <p:cNvGrpSpPr/>
          <p:nvPr/>
        </p:nvGrpSpPr>
        <p:grpSpPr>
          <a:xfrm>
            <a:off x="3583080" y="3780000"/>
            <a:ext cx="1346040" cy="720720"/>
            <a:chOff x="3583080" y="3780000"/>
            <a:chExt cx="1346040" cy="720720"/>
          </a:xfrm>
        </p:grpSpPr>
        <p:grpSp>
          <p:nvGrpSpPr>
            <p:cNvPr id="838" name="组合 34"/>
            <p:cNvGrpSpPr/>
            <p:nvPr/>
          </p:nvGrpSpPr>
          <p:grpSpPr>
            <a:xfrm>
              <a:off x="3583080" y="3780000"/>
              <a:ext cx="1346040" cy="720720"/>
              <a:chOff x="3583080" y="3780000"/>
              <a:chExt cx="1346040" cy="720720"/>
            </a:xfrm>
          </p:grpSpPr>
          <p:sp>
            <p:nvSpPr>
              <p:cNvPr id="839" name="直接连接符 22"/>
              <p:cNvSpPr/>
              <p:nvPr/>
            </p:nvSpPr>
            <p:spPr>
              <a:xfrm flipH="1">
                <a:off x="4713480" y="3780000"/>
                <a:ext cx="1440" cy="72072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标题 2"/>
              <p:cNvSpPr/>
              <p:nvPr/>
            </p:nvSpPr>
            <p:spPr>
              <a:xfrm>
                <a:off x="3583080" y="3786120"/>
                <a:ext cx="1346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厘米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右大括号 21"/>
            <p:cNvSpPr/>
            <p:nvPr/>
          </p:nvSpPr>
          <p:spPr>
            <a:xfrm flipH="1">
              <a:off x="4529160" y="3786120"/>
              <a:ext cx="185760" cy="71460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1680 h 714600"/>
                <a:gd name="textAreaBottom" fmla="*/ 68292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45"/>
                    <a:pt x="10800" y="3089"/>
                  </a:cubicBezTo>
                  <a:lnTo>
                    <a:pt x="10800" y="4029"/>
                  </a:lnTo>
                  <a:cubicBezTo>
                    <a:pt x="10800" y="5574"/>
                    <a:pt x="16200" y="7118"/>
                    <a:pt x="21600" y="7118"/>
                  </a:cubicBezTo>
                  <a:cubicBezTo>
                    <a:pt x="16200" y="7118"/>
                    <a:pt x="10800" y="8663"/>
                    <a:pt x="10800" y="10207"/>
                  </a:cubicBezTo>
                  <a:lnTo>
                    <a:pt x="10800" y="18511"/>
                  </a:lnTo>
                  <a:cubicBezTo>
                    <a:pt x="10800" y="20056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组合 29"/>
          <p:cNvGrpSpPr/>
          <p:nvPr/>
        </p:nvGrpSpPr>
        <p:grpSpPr>
          <a:xfrm>
            <a:off x="3646080" y="4500000"/>
            <a:ext cx="1365480" cy="529200"/>
            <a:chOff x="3646080" y="4500000"/>
            <a:chExt cx="1365480" cy="529200"/>
          </a:xfrm>
        </p:grpSpPr>
        <p:grpSp>
          <p:nvGrpSpPr>
            <p:cNvPr id="843" name="组合 35"/>
            <p:cNvGrpSpPr/>
            <p:nvPr/>
          </p:nvGrpSpPr>
          <p:grpSpPr>
            <a:xfrm>
              <a:off x="3646080" y="4500000"/>
              <a:ext cx="1365480" cy="529200"/>
              <a:chOff x="3646080" y="4500000"/>
              <a:chExt cx="1365480" cy="529200"/>
            </a:xfrm>
          </p:grpSpPr>
          <p:sp>
            <p:nvSpPr>
              <p:cNvPr id="844" name="直接连接符 29"/>
              <p:cNvSpPr/>
              <p:nvPr/>
            </p:nvSpPr>
            <p:spPr>
              <a:xfrm flipH="1">
                <a:off x="3646080" y="4500000"/>
                <a:ext cx="1079640" cy="1260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标题 2"/>
              <p:cNvSpPr/>
              <p:nvPr/>
            </p:nvSpPr>
            <p:spPr>
              <a:xfrm>
                <a:off x="3663720" y="4572000"/>
                <a:ext cx="1347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厘米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右大括号 33"/>
            <p:cNvSpPr/>
            <p:nvPr/>
          </p:nvSpPr>
          <p:spPr>
            <a:xfrm flipH="1" rot="16200000">
              <a:off x="4084200" y="4073400"/>
              <a:ext cx="214200" cy="1068480"/>
            </a:xfrm>
            <a:custGeom>
              <a:avLst/>
              <a:gdLst>
                <a:gd name="textAreaLeft" fmla="*/ 0 w 214200"/>
                <a:gd name="textAreaRight" fmla="*/ 77400 w 214200"/>
                <a:gd name="textAreaTop" fmla="*/ 36720 h 1068480"/>
                <a:gd name="textAreaBottom" fmla="*/ 1031760 h 10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90"/>
                    <a:pt x="10800" y="2379"/>
                  </a:cubicBezTo>
                  <a:lnTo>
                    <a:pt x="10800" y="13179"/>
                  </a:lnTo>
                  <a:cubicBezTo>
                    <a:pt x="10800" y="14369"/>
                    <a:pt x="16200" y="15558"/>
                    <a:pt x="21600" y="15558"/>
                  </a:cubicBezTo>
                  <a:cubicBezTo>
                    <a:pt x="16200" y="15558"/>
                    <a:pt x="10800" y="16748"/>
                    <a:pt x="10800" y="17937"/>
                  </a:cubicBezTo>
                  <a:lnTo>
                    <a:pt x="10800" y="19221"/>
                  </a:lnTo>
                  <a:cubicBezTo>
                    <a:pt x="10800" y="20411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标题 2"/>
          <p:cNvSpPr/>
          <p:nvPr/>
        </p:nvSpPr>
        <p:spPr>
          <a:xfrm>
            <a:off x="2511360" y="4471920"/>
            <a:ext cx="121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汽车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组合 24"/>
          <p:cNvGrpSpPr/>
          <p:nvPr/>
        </p:nvGrpSpPr>
        <p:grpSpPr>
          <a:xfrm>
            <a:off x="3082680" y="2428920"/>
            <a:ext cx="3408480" cy="3132360"/>
            <a:chOff x="3082680" y="2428920"/>
            <a:chExt cx="3408480" cy="3132360"/>
          </a:xfrm>
        </p:grpSpPr>
        <p:cxnSp>
          <p:nvCxnSpPr>
            <p:cNvPr id="849" name="直接箭头连接符 46"/>
            <p:cNvCxnSpPr/>
            <p:nvPr/>
          </p:nvCxnSpPr>
          <p:spPr>
            <a:xfrm flipH="1">
              <a:off x="4704480" y="2428920"/>
              <a:ext cx="1080" cy="313272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850" name="直接箭头连接符 47"/>
            <p:cNvCxnSpPr/>
            <p:nvPr/>
          </p:nvCxnSpPr>
          <p:spPr>
            <a:xfrm>
              <a:off x="3082680" y="3768480"/>
              <a:ext cx="3408840" cy="370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851" name="椭圆 48"/>
            <p:cNvSpPr/>
            <p:nvPr/>
          </p:nvSpPr>
          <p:spPr>
            <a:xfrm>
              <a:off x="4680000" y="3765600"/>
              <a:ext cx="71280" cy="72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48"/>
          <p:cNvGrpSpPr/>
          <p:nvPr/>
        </p:nvGrpSpPr>
        <p:grpSpPr>
          <a:xfrm>
            <a:off x="4511520" y="3643200"/>
            <a:ext cx="2214720" cy="1028880"/>
            <a:chOff x="4511520" y="3643200"/>
            <a:chExt cx="2214720" cy="1028880"/>
          </a:xfrm>
        </p:grpSpPr>
        <p:grpSp>
          <p:nvGrpSpPr>
            <p:cNvPr id="853" name="组合 26"/>
            <p:cNvGrpSpPr/>
            <p:nvPr/>
          </p:nvGrpSpPr>
          <p:grpSpPr>
            <a:xfrm>
              <a:off x="4511520" y="3785760"/>
              <a:ext cx="2214720" cy="886320"/>
              <a:chOff x="4511520" y="3785760"/>
              <a:chExt cx="2214720" cy="886320"/>
            </a:xfrm>
          </p:grpSpPr>
          <p:grpSp>
            <p:nvGrpSpPr>
              <p:cNvPr id="854" name="组合 35"/>
              <p:cNvGrpSpPr/>
              <p:nvPr/>
            </p:nvGrpSpPr>
            <p:grpSpPr>
              <a:xfrm>
                <a:off x="4511520" y="3785760"/>
                <a:ext cx="2214720" cy="886320"/>
                <a:chOff x="4511520" y="3785760"/>
                <a:chExt cx="2214720" cy="886320"/>
              </a:xfrm>
            </p:grpSpPr>
            <p:sp>
              <p:nvSpPr>
                <p:cNvPr id="855" name="直接连接符 58"/>
                <p:cNvSpPr/>
                <p:nvPr/>
              </p:nvSpPr>
              <p:spPr>
                <a:xfrm flipH="1" flipV="1">
                  <a:off x="4725720" y="3785760"/>
                  <a:ext cx="900000" cy="50004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标题 2"/>
                <p:cNvSpPr/>
                <p:nvPr/>
              </p:nvSpPr>
              <p:spPr>
                <a:xfrm>
                  <a:off x="5115960" y="4000320"/>
                  <a:ext cx="161028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终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标题 2"/>
                <p:cNvSpPr/>
                <p:nvPr/>
              </p:nvSpPr>
              <p:spPr>
                <a:xfrm>
                  <a:off x="4511520" y="4214880"/>
                  <a:ext cx="1347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.5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厘米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8" name="右大括号 57"/>
              <p:cNvSpPr/>
              <p:nvPr/>
            </p:nvSpPr>
            <p:spPr>
              <a:xfrm flipH="1" rot="17889600">
                <a:off x="5067720" y="3570480"/>
                <a:ext cx="153720" cy="1075320"/>
              </a:xfrm>
              <a:custGeom>
                <a:avLst/>
                <a:gdLst>
                  <a:gd name="textAreaLeft" fmla="*/ -360 w 153720"/>
                  <a:gd name="textAreaRight" fmla="*/ 55080 w 153720"/>
                  <a:gd name="textAreaTop" fmla="*/ 26280 h 1075320"/>
                  <a:gd name="textAreaBottom" fmla="*/ 1049040 h 107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850"/>
                      <a:pt x="10800" y="1700"/>
                    </a:cubicBezTo>
                    <a:lnTo>
                      <a:pt x="10800" y="13858"/>
                    </a:lnTo>
                    <a:cubicBezTo>
                      <a:pt x="10800" y="14708"/>
                      <a:pt x="16200" y="15558"/>
                      <a:pt x="21600" y="15558"/>
                    </a:cubicBezTo>
                    <a:cubicBezTo>
                      <a:pt x="16200" y="15558"/>
                      <a:pt x="10800" y="16408"/>
                      <a:pt x="10800" y="17258"/>
                    </a:cubicBezTo>
                    <a:lnTo>
                      <a:pt x="10800" y="19900"/>
                    </a:lnTo>
                    <a:cubicBezTo>
                      <a:pt x="10800" y="20750"/>
                      <a:pt x="5400" y="21600"/>
                      <a:pt x="0" y="21600"/>
                    </a:cubicBez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弧形 54"/>
            <p:cNvSpPr/>
            <p:nvPr/>
          </p:nvSpPr>
          <p:spPr>
            <a:xfrm rot="2948400">
              <a:off x="4841280" y="3708360"/>
              <a:ext cx="257040" cy="234720"/>
            </a:xfrm>
            <a:custGeom>
              <a:avLst/>
              <a:gdLst/>
              <a:ahLst/>
              <a:rect l="l" t="t" r="r" b="b"/>
              <a:pathLst>
                <a:path stroke="0" w="257114" h="234906">
                  <a:moveTo>
                    <a:pt x="164631" y="4719"/>
                  </a:moveTo>
                  <a:cubicBezTo>
                    <a:pt x="198974" y="13892"/>
                    <a:pt x="227578" y="35726"/>
                    <a:pt x="243566" y="64971"/>
                  </a:cubicBezTo>
                  <a:cubicBezTo>
                    <a:pt x="261133" y="97104"/>
                    <a:pt x="261641" y="134815"/>
                    <a:pt x="244945" y="167333"/>
                  </a:cubicBezTo>
                  <a:lnTo>
                    <a:pt x="128557" y="117453"/>
                  </a:lnTo>
                  <a:lnTo>
                    <a:pt x="164631" y="4719"/>
                  </a:lnTo>
                  <a:close/>
                </a:path>
                <a:path fill="none" w="257114" h="234906">
                  <a:moveTo>
                    <a:pt x="164631" y="4719"/>
                  </a:moveTo>
                  <a:cubicBezTo>
                    <a:pt x="198974" y="13892"/>
                    <a:pt x="227578" y="35726"/>
                    <a:pt x="243566" y="64971"/>
                  </a:cubicBezTo>
                  <a:cubicBezTo>
                    <a:pt x="261133" y="97104"/>
                    <a:pt x="261641" y="134815"/>
                    <a:pt x="244945" y="16733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标题 2"/>
            <p:cNvSpPr/>
            <p:nvPr/>
          </p:nvSpPr>
          <p:spPr>
            <a:xfrm>
              <a:off x="4939920" y="3643200"/>
              <a:ext cx="113040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357200" y="1142640"/>
            <a:ext cx="77868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一辆客车从汽车站向东行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后再向北行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，然后再向东偏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行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到达终点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这辆客车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的速度行完全程，用了多少时间？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2" name="TextBox 30"/>
          <p:cNvSpPr/>
          <p:nvPr/>
        </p:nvSpPr>
        <p:spPr>
          <a:xfrm>
            <a:off x="3071880" y="335772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÷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35"/>
          <p:cNvSpPr/>
          <p:nvPr/>
        </p:nvSpPr>
        <p:spPr>
          <a:xfrm>
            <a:off x="1714680" y="478620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这辆客车以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米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时的速度行完全程，用了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30"/>
          <p:cNvSpPr/>
          <p:nvPr/>
        </p:nvSpPr>
        <p:spPr>
          <a:xfrm>
            <a:off x="3000240" y="385776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5÷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30"/>
          <p:cNvSpPr/>
          <p:nvPr/>
        </p:nvSpPr>
        <p:spPr>
          <a:xfrm>
            <a:off x="3000240" y="428616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小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13920" y="1000080"/>
            <a:ext cx="7929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下面是王叔叔某日驾车出行情况图。看图回答下列问题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7" name="TextBox 18"/>
          <p:cNvSpPr/>
          <p:nvPr/>
        </p:nvSpPr>
        <p:spPr>
          <a:xfrm>
            <a:off x="5143680" y="51436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14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47960" y="2000160"/>
            <a:ext cx="5553000" cy="2679840"/>
          </a:xfrm>
          <a:prstGeom prst="rect">
            <a:avLst/>
          </a:prstGeom>
          <a:ln w="0">
            <a:noFill/>
          </a:ln>
        </p:spPr>
      </p:pic>
      <p:sp>
        <p:nvSpPr>
          <p:cNvPr id="869" name="标题 7"/>
          <p:cNvSpPr/>
          <p:nvPr/>
        </p:nvSpPr>
        <p:spPr>
          <a:xfrm>
            <a:off x="714240" y="4643280"/>
            <a:ext cx="792972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王叔叔是什么时间出发的？什么时间返回原地？中途休息了多长时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15"/>
          <p:cNvSpPr/>
          <p:nvPr/>
        </p:nvSpPr>
        <p:spPr>
          <a:xfrm>
            <a:off x="1571760" y="569124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返回原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16"/>
          <p:cNvSpPr/>
          <p:nvPr/>
        </p:nvSpPr>
        <p:spPr>
          <a:xfrm>
            <a:off x="4572000" y="56912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途休息了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矩形 17"/>
          <p:cNvSpPr/>
          <p:nvPr/>
        </p:nvSpPr>
        <p:spPr>
          <a:xfrm>
            <a:off x="2714760" y="4000680"/>
            <a:ext cx="500040" cy="71424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20"/>
          <p:cNvSpPr/>
          <p:nvPr/>
        </p:nvSpPr>
        <p:spPr>
          <a:xfrm>
            <a:off x="5143680" y="2214720"/>
            <a:ext cx="500040" cy="250020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21"/>
          <p:cNvSpPr/>
          <p:nvPr/>
        </p:nvSpPr>
        <p:spPr>
          <a:xfrm>
            <a:off x="4214880" y="2500200"/>
            <a:ext cx="1428840" cy="228600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6:09:49Z</dcterms:created>
  <dc:creator/>
  <dc:description/>
  <cp:keywords/>
  <dc:language>en-US</dc:language>
  <cp:lastModifiedBy/>
  <dcterms:modified xsi:type="dcterms:W3CDTF">2017-03-15T06:09:52Z</dcterms:modified>
  <cp:revision>1</cp:revision>
  <dc:subject/>
  <dc:title/>
</cp:coreProperties>
</file>